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091-D1B8-4936-B582-9DCF8597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39C-03A9-4EB3-8CBE-026EAF8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63F-DAD0-417B-92F5-7E184442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41B-CA3D-4E44-B73A-DE8C88B4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456-155F-4FDC-9E28-D787C8A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B97-4965-4C16-AE97-E865FA56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D7B-819A-40D3-99D9-B9B09390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6F4-96F6-42E3-86D9-59B6E78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BB5-9D3F-45B7-987A-8D25484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6AC-A597-46D4-810C-CD59E1A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958-02E6-4287-8075-3320313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F9B-2EE5-4B62-B9FF-0E23747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BDC-A38F-4340-BE08-C6C22472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reen.tv/unep_global_desertification_outlook" TargetMode="External"/><Relationship Id="rId2" Type="http://schemas.openxmlformats.org/officeDocument/2006/relationships/hyperlink" Target="http://images.google.com/imgres?imgurl=http://www.mccullagh.org/db9/1ds-4/sand-dune-sea-of-sand.jpg&amp;imgrefurl=http://www.mccullagh.org/photo/1ds-4/sand-dune-sea-of-sand&amp;usg=__yOC9kBzBJjT-fAET6GKrIAUcH-U=&amp;h=512&amp;w=768&amp;sz=121&amp;hl=en&amp;start=6&amp;um=1&amp;itbs=1&amp;tbnid=UxyWuMe4Rd1GwM:&amp;tbnh=95&amp;tbnw=142&amp;prev=/images%3Fq%3Dsand%26hl%3Den%26safe%3Dactive%26um%3D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o.org/desertification/object/video/video10.mo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ioenergywiki.net/images/d/d1/Desertificatio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60948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reen.tv/unep_global_desertification_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ideo explains water usage and how it contributes to desertification. It also explains dust storms, and how the dirt can blow away easier from plant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Use-The land is not made to support huge fields of crops, and the water will get used up to quickly, eventually turning into a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o.org/desertification/object/video/video10.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ideo will show water irrigation in Egy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Desertification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cts and 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17 Feb. 2010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&lt;http://www.fao.org/desertification/default.asp?lang=en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is the process of fertile land changing into dry barren land or a 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caused naturally or by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89872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bility to suppor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d soi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does not get absorbed into the soil for plants and even drought resistant plants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Desertifica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0"/>
            <a:ext cx="171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for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auses, both natural and due to human interference are: mechanized land tillage, shortened fallow period, increased population densities and cultivating on virgin 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zed Land Til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zed land tillage is the use of a plough machine to turn, or rip the soil to mix the fertilizer and/or produce finer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38720" y="195732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ed Fallow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Fallow Periods – The time land is left unseeded during a growing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one third of land is classified as a desert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next century this will rise by at least 17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of Africa is classified as a desert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52680" y="3110040"/>
            <a:ext cx="5791320" cy="374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6576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y areas are already deserts, the red areas are where it is beginning to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oes it eff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ification effects everyone. You may not live near a desert, but when land becomes a desert it can no longer grow food which is then imported to yo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and animals also lose their homes and habitat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3098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oy is taking care of irrigation channels in the desert near his home to try to return it to its fertile stat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17:35Z</dcterms:created>
  <dc:creator>SASD</dc:creator>
  <dc:description/>
  <dc:language>en-US</dc:language>
  <cp:lastModifiedBy>SASD</cp:lastModifiedBy>
  <dcterms:modified xsi:type="dcterms:W3CDTF">2010-02-18T14:22:45Z</dcterms:modified>
  <cp:revision>9</cp:revision>
  <dc:subject/>
  <dc:title>Slide 1</dc:title>
</cp:coreProperties>
</file>